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A89-EF2D-413B-B715-5384A846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AFC-C702-4A41-9DFA-497B6C60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E4B-95E5-48ED-AA79-FA33C279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B48-2041-47BC-934C-365B2235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819-71B4-48A2-BE0D-6B6D0CD2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273-3B89-43F4-B29F-1327F296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80B-6304-4117-999C-D2E2DDB4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BF6-3127-449F-85E0-BD589B83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78920"/>
            <a:ext cx="8785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79A-1D9E-453F-90C4-2EDFE306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74C-7A27-48C6-A091-E287721F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32B-F4D2-40ED-B6B7-0C51554C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AD5-1D18-40ED-8C79-3E397E0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18000"/>
            <a:ext cx="215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4FC3-A5A2-4B41-86C1-F032C69209F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318000"/>
            <a:ext cx="2879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297480"/>
            <a:ext cx="215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5B22-33A5-4E4A-9AF6-E361888EA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OOR PENTATHLON COMPETI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DAY JULY 2 at 2:3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MAWR FITNESS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14:43Z</dcterms:created>
  <dc:creator/>
  <dc:description/>
  <dc:language>en-US</dc:language>
  <cp:lastModifiedBy/>
  <dcterms:modified xsi:type="dcterms:W3CDTF">2010-10-06T08:41:22Z</dcterms:modified>
  <cp:revision>10</cp:revision>
  <dc:subject/>
  <dc:title>INDOOR PENTATHLON COMPETITION</dc:title>
</cp:coreProperties>
</file>