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E806-B698-474A-8FDD-307C55C21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1438200"/>
            <a:ext cx="878544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882240"/>
            <a:ext cx="878544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142A-9D50-4F9E-AA7A-A6D376B39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1438200"/>
            <a:ext cx="428724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438200"/>
            <a:ext cx="428724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882240"/>
            <a:ext cx="428724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882240"/>
            <a:ext cx="428724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68D1-1AC6-4221-B7D1-FAC9D0ABB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1438200"/>
            <a:ext cx="282852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1438200"/>
            <a:ext cx="282852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1438200"/>
            <a:ext cx="282852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882240"/>
            <a:ext cx="282852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882240"/>
            <a:ext cx="282852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882240"/>
            <a:ext cx="282852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2151-5E9E-4069-9865-1834EA079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1438200"/>
            <a:ext cx="8785440" cy="467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CF22-CB24-455F-9E05-6C42C33C3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1438200"/>
            <a:ext cx="878544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3AF5-1F9E-41AE-AB35-ECB86338F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1438200"/>
            <a:ext cx="428724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438200"/>
            <a:ext cx="428724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4616-8421-49A6-9303-F6030A276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78E9-C153-4808-9352-5AF7785D1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78920"/>
            <a:ext cx="878544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0402-C044-4F75-A848-04DE1DA37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1438200"/>
            <a:ext cx="428724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438200"/>
            <a:ext cx="428724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882240"/>
            <a:ext cx="428724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ACFB-50EA-45B7-9F15-D7F97DC2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438200"/>
            <a:ext cx="428724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438200"/>
            <a:ext cx="428724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882240"/>
            <a:ext cx="428724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9286-B6C9-4B0E-8D18-3433FE9EB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1438200"/>
            <a:ext cx="428724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438200"/>
            <a:ext cx="428724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882240"/>
            <a:ext cx="878544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AF78-D8E0-456C-ACD0-9F079DC8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1438200"/>
            <a:ext cx="878544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Aft>
                <a:spcPts val="1199"/>
              </a:spcAft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Aft>
                <a:spcPts val="1199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Aft>
                <a:spcPts val="1199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Aft>
                <a:spcPts val="1199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9280" y="6318000"/>
            <a:ext cx="215928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D35DE-2B5E-43D9-9A3C-9504562146B3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58920" y="6318000"/>
            <a:ext cx="287964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37120" y="6297480"/>
            <a:ext cx="215892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CE169-2486-4B69-8DF0-7DC6DB06DD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DOOR PENTATHLON COMPETITI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0920" y="1773360"/>
            <a:ext cx="86421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TURDAY JULY 2 at 2:30 p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NMAWR FITNESS CLU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4T19:14:43Z</dcterms:created>
  <dc:creator/>
  <dc:description/>
  <dc:language>en-US</dc:language>
  <cp:lastModifiedBy/>
  <dcterms:modified xsi:type="dcterms:W3CDTF">2010-10-06T08:41:22Z</dcterms:modified>
  <cp:revision>10</cp:revision>
  <dc:subject/>
  <dc:title>INDOOR PENTATHLON COMPETITION</dc:title>
</cp:coreProperties>
</file>